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823AAA8-F831-45A9-AF00-1C287BAB6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7DD8DEA-ECAF-43EB-ADC6-916AB8772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97CE2F5-398A-4F3E-9D6F-D761A1428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DB145BD-CC47-42AA-AF0E-75D4295B3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6BBE260-8EBF-4535-9081-0EB79A766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4704AF3-E186-4C0E-9342-DE0690FFF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5571411-0C8F-44FD-9142-E62020F68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C6FC52A-1528-4A2D-9869-3FDF7C941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13BCA8B-3C71-485A-BB76-CD8137A0E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724205D-11F5-4238-8AC1-DEBC3E188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Picture 5" descr="C:\dcwfiles\Logo.GIF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6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E4B3-AE9B-413A-89B4-7E61DD73A70C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ntroduction &amp; Agend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Object 5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6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e-requi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ttendees are expected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e familiar with the CIS/2 documenta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ring their own Laptop PC with CDROM driv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eferably with their potential CIS/2-conformant application installed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ring detailed documentation for their native data structur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e experienced software developer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ith a detailed understanding of the native data structures of their application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discuss what progress they have ma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 what difficulties they have encountered during their translator developmen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nt of the workshop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equip each of you with the knowledge necessary to implement CIS/2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enable you to effectively pursue and complete translator development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is workshop will have interactive environment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cluding discussions, question &amp; answer sessions, tutorials and workshop session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is translates to a great deal of hands-on experienc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articip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-383400">
              <a:spcBef>
                <a:spcPts val="799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Arial"/>
              </a:rPr>
              <a:t>The success of this workshop depends upon the participation of each attendee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ach day is packed with information and exercises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ry to endure thi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e as involved as possi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sk as many questions as you lik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3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Don't leave this workshop with questions unanswered!!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1 - Mon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3" name="Object 3" descr=""/>
          <p:cNvPicPr/>
          <p:nvPr/>
        </p:nvPicPr>
        <p:blipFill>
          <a:blip r:embed="rId1"/>
          <a:stretch/>
        </p:blipFill>
        <p:spPr>
          <a:xfrm>
            <a:off x="115920" y="762120"/>
            <a:ext cx="8875800" cy="54608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2 - Tues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5" name="Object 3" descr=""/>
          <p:cNvPicPr/>
          <p:nvPr/>
        </p:nvPicPr>
        <p:blipFill>
          <a:blip r:embed="rId1"/>
          <a:stretch/>
        </p:blipFill>
        <p:spPr>
          <a:xfrm>
            <a:off x="192240" y="762120"/>
            <a:ext cx="8875440" cy="54766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3 - Wednes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7" name="Object 3" descr=""/>
          <p:cNvPicPr/>
          <p:nvPr/>
        </p:nvPicPr>
        <p:blipFill>
          <a:blip r:embed="rId1"/>
          <a:stretch/>
        </p:blipFill>
        <p:spPr>
          <a:xfrm>
            <a:off x="115920" y="741240"/>
            <a:ext cx="8875800" cy="5507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4 - Thurs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9" name="Object 3" descr=""/>
          <p:cNvPicPr/>
          <p:nvPr/>
        </p:nvPicPr>
        <p:blipFill>
          <a:blip r:embed="rId1"/>
          <a:stretch/>
        </p:blipFill>
        <p:spPr>
          <a:xfrm>
            <a:off x="268200" y="1019160"/>
            <a:ext cx="8607600" cy="51530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5 - Fri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1" name="Object 2067" descr=""/>
          <p:cNvPicPr/>
          <p:nvPr/>
        </p:nvPicPr>
        <p:blipFill>
          <a:blip r:embed="rId1"/>
          <a:stretch/>
        </p:blipFill>
        <p:spPr>
          <a:xfrm>
            <a:off x="268200" y="846000"/>
            <a:ext cx="8607600" cy="5241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4:49:47Z</dcterms:created>
  <dc:creator>Andrew Crowley</dc:creator>
  <dc:description/>
  <dc:language>en-US</dc:language>
  <cp:lastModifiedBy>Robert Lipman</cp:lastModifiedBy>
  <cp:lastPrinted>1999-02-12T12:33:41Z</cp:lastPrinted>
  <dcterms:modified xsi:type="dcterms:W3CDTF">2012-02-17T21:43:23Z</dcterms:modified>
  <cp:revision>7</cp:revision>
  <dc:subject/>
  <dc:title>CIS/2 Implementation Workshop III,  3-7 April 2000, Ascot</dc:title>
</cp:coreProperties>
</file>